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TYPE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E50-FA76-4785-8BDA-0E208ED7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AEB-4FD8-40B7-B34A-7C6FCB4B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B54-E601-4113-B578-1F8EA4A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026-C1B0-4100-85C4-F02892FE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FDA-4D5C-427D-8904-E116FF62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B5D-678E-404F-B788-33838305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EC7-03F5-4CCC-9DE1-951F3B4A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610-92DD-439C-9230-01CE8AB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5F6-1C3C-442D-8B80-E23DD64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D0E-D64C-4222-8510-4BE0FC1E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C57-6642-4B9B-8AA9-A9F5B416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CD5-0269-4CE5-A21B-8006C336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25F-A1AC-42DA-ADB3-A4D2609B4355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7379-4016-49D7-BA82-1DD8A1470B22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400" y="3200400"/>
            <a:ext cx="119124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0840" y="1143000"/>
            <a:ext cx="7604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: Ground state: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148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19112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14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657600"/>
            <a:ext cx="23623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2p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43680" y="472428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41972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4495680"/>
            <a:ext cx="0" cy="6858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486400"/>
            <a:ext cx="129528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114800"/>
            <a:ext cx="137160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33920"/>
            <a:ext cx="9144000" cy="144756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e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609480"/>
            <a:ext cx="9144000" cy="5829480"/>
            <a:chOff x="0" y="609480"/>
            <a:chExt cx="9144000" cy="5829480"/>
          </a:xfrm>
        </p:grpSpPr>
        <p:sp>
          <p:nvSpPr>
            <p:cNvPr id="178" name=""/>
            <p:cNvSpPr/>
            <p:nvPr/>
          </p:nvSpPr>
          <p:spPr>
            <a:xfrm>
              <a:off x="0" y="609480"/>
              <a:ext cx="9144000" cy="58294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1520" y="1315800"/>
              <a:ext cx="201168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520" y="5025600"/>
              <a:ext cx="201168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5040" y="1315800"/>
              <a:ext cx="219456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08960" y="1254960"/>
              <a:ext cx="2560320" cy="706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08960" y="5025600"/>
              <a:ext cx="2560320" cy="706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dip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5040" y="5025600"/>
              <a:ext cx="2011320" cy="706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2p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5</a:t>
              </a: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3d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Verdana"/>
                </a:rPr>
                <a:t>10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40" y="2313720"/>
              <a:ext cx="2194560" cy="247320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618120 h 2473200"/>
                <a:gd name="textAreaBottom" fmla="*/ 1855080 h 24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52160" y="2375640"/>
              <a:ext cx="2194560" cy="2473200"/>
            </a:xfrm>
            <a:custGeom>
              <a:avLst/>
              <a:gdLst>
                <a:gd name="textAreaLeft" fmla="*/ 0 w 2194560"/>
                <a:gd name="textAreaRight" fmla="*/ 2194920 w 2194560"/>
                <a:gd name="textAreaTop" fmla="*/ 618120 h 2473200"/>
                <a:gd name="textAreaBottom" fmla="*/ 1855080 h 24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ccff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Verdana"/>
                </a:rPr>
                <a:t>Mixing t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76520"/>
            <a:ext cx="11430000" cy="2562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0    1    1 INTER0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2 1 12 1 10         00      9 00000000 0 8065.4790 .00       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8  P06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P0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3+   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i3+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nl-NL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irst of four calculations: dipole of 3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676520"/>
            <a:ext cx="11430000" cy="22885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                         80998080            8065.47900     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0             14    0    4    0    4 SHELL30000000 SPIN30000000 IN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     3 1 13 1 10         00      9 00000000 0 8065.4790 .00     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8  P06  D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09  P06  D0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3+P6D8L     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i3+P6D9L2         2    0.0000    0.0742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99999999.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r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calculation: initial state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with C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676520"/>
            <a:ext cx="1143000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% vertical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racer 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O    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END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1- MULTIPOLE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BRANCH  1- &gt; 0 1-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10Dq       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HAMILTONIAN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ACTOR   0+ 10Dq       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RU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rac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257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and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603360"/>
            <a:ext cx="9144000" cy="69519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% horizontal ground  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acer 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TO    OH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END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eghybr   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 .89442719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t2ghybr     TRAN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MULTI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341640787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-3.28633534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HAMILT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10Dq       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She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HAMILTONIAN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HAMILTON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0+ &gt; 0 0+ 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ACTOR   0+ 10Dq        EX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OPER     Shel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BRANCH  4+ &gt; 0 0+  3.286335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RU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            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rac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rd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and 4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  <a:ea typeface="Arial"/>
              </a:rPr>
              <a:t>th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76520"/>
            <a:ext cx="9144000" cy="37530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PRMU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range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CONF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N2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f EG2 =  0.0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ef EF2 =  -2.0 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MIX 2    2.0  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   1 1 2           2 1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XHAM 2  1.0  1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4   1 1   1 2   2 1  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  2    1 1   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IAD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put of ban-file for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5962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59240" y="3673440"/>
            <a:ext cx="9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77600" y="777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81920" y="777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77600" y="37497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1676520"/>
            <a:ext cx="6095520" cy="3281040"/>
            <a:chOff x="1295280" y="1676520"/>
            <a:chExt cx="6095520" cy="3281040"/>
          </a:xfrm>
        </p:grpSpPr>
        <p:grpSp>
          <p:nvGrpSpPr>
            <p:cNvPr id="227" name=""/>
            <p:cNvGrpSpPr/>
            <p:nvPr/>
          </p:nvGrpSpPr>
          <p:grpSpPr>
            <a:xfrm>
              <a:off x="1305720" y="1681200"/>
              <a:ext cx="6072840" cy="3270600"/>
              <a:chOff x="1305720" y="1681200"/>
              <a:chExt cx="6072840" cy="32706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305720" y="1681200"/>
                <a:ext cx="2218320" cy="653400"/>
                <a:chOff x="1305720" y="1681200"/>
                <a:chExt cx="2218320" cy="653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58720" y="168120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05720" y="168120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524760" y="1681200"/>
                <a:ext cx="1755720" cy="653400"/>
                <a:chOff x="3524760" y="1681200"/>
                <a:chExt cx="1755720" cy="653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677040" y="168120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% 3d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524760" y="168120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281200" y="1681200"/>
                <a:ext cx="2097360" cy="653400"/>
                <a:chOff x="5281200" y="1681200"/>
                <a:chExt cx="2097360" cy="653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434200" y="168120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%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 </a:t>
                  </a: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9</a:t>
                  </a:r>
                  <a:r>
                    <a:rPr b="1" lang="en-GB" sz="2400" spc="-1" strike="noStrike" u="sng">
                      <a:solidFill>
                        <a:srgbClr val="0000ff"/>
                      </a:solidFill>
                      <a:uFillTx/>
                      <a:latin typeface="Verdana"/>
                      <a:ea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81200" y="168120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305720" y="2334960"/>
                <a:ext cx="2218320" cy="654120"/>
                <a:chOff x="1305720" y="2334960"/>
                <a:chExt cx="2218320" cy="654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458720" y="2334960"/>
                  <a:ext cx="19119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05720" y="2334960"/>
                  <a:ext cx="22183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524760" y="2334960"/>
                <a:ext cx="1755720" cy="654120"/>
                <a:chOff x="3524760" y="2334960"/>
                <a:chExt cx="1755720" cy="654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677040" y="2334960"/>
                  <a:ext cx="145008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524760" y="2334960"/>
                  <a:ext cx="17557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281200" y="2334960"/>
                <a:ext cx="2097360" cy="654120"/>
                <a:chOff x="5281200" y="2334960"/>
                <a:chExt cx="2097360" cy="6541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4200" y="2334960"/>
                  <a:ext cx="17910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81200" y="2334960"/>
                  <a:ext cx="209736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305720" y="2989440"/>
                <a:ext cx="2218320" cy="653400"/>
                <a:chOff x="1305720" y="2989440"/>
                <a:chExt cx="2218320" cy="653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58720" y="298944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05720" y="298944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524760" y="2989440"/>
                <a:ext cx="1755720" cy="653400"/>
                <a:chOff x="3524760" y="2989440"/>
                <a:chExt cx="1755720" cy="6534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677040" y="298944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524760" y="298944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281200" y="2989440"/>
                <a:ext cx="2097360" cy="653400"/>
                <a:chOff x="5281200" y="2989440"/>
                <a:chExt cx="2097360" cy="6534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434200" y="298944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81200" y="298944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305720" y="3643560"/>
                <a:ext cx="2218320" cy="653400"/>
                <a:chOff x="1305720" y="3643560"/>
                <a:chExt cx="2218320" cy="653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458720" y="3643560"/>
                  <a:ext cx="191196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305720" y="3643560"/>
                  <a:ext cx="22183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524760" y="3643560"/>
                <a:ext cx="1755720" cy="653400"/>
                <a:chOff x="3524760" y="3643560"/>
                <a:chExt cx="1755720" cy="653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677040" y="3643560"/>
                  <a:ext cx="14500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24760" y="3643560"/>
                  <a:ext cx="175572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281200" y="3643560"/>
                <a:ext cx="2097360" cy="653400"/>
                <a:chOff x="5281200" y="3643560"/>
                <a:chExt cx="2097360" cy="653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434200" y="3643560"/>
                  <a:ext cx="179100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281200" y="3643560"/>
                  <a:ext cx="2097360" cy="653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05720" y="4297680"/>
                <a:ext cx="2218320" cy="654120"/>
                <a:chOff x="1305720" y="4297680"/>
                <a:chExt cx="2218320" cy="654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458720" y="4297680"/>
                  <a:ext cx="191196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305720" y="4297680"/>
                  <a:ext cx="22183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524760" y="4297680"/>
                <a:ext cx="1755720" cy="654120"/>
                <a:chOff x="3524760" y="4297680"/>
                <a:chExt cx="1755720" cy="654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77040" y="4297680"/>
                  <a:ext cx="145008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524760" y="4297680"/>
                  <a:ext cx="175572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281200" y="4297680"/>
                <a:ext cx="2097360" cy="654120"/>
                <a:chOff x="5281200" y="4297680"/>
                <a:chExt cx="2097360" cy="654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434200" y="4297680"/>
                  <a:ext cx="17910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81200" y="4297680"/>
                  <a:ext cx="2097360" cy="654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1295280" y="1676520"/>
              <a:ext cx="6095520" cy="328104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9.oba 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523880"/>
            <a:ext cx="12801600" cy="4667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+   1-   1- 0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Ground state energy Eg0= -1.138234258     (   1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Weight of configurations 1,2,3 in the ground state: 0.96709 0.03291 0.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owest few energies            -1.13823  -0.21210   0.54317   4.65561   8.40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  9.61269   9.87314   9.97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ergies and 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 0.967  -0.21210 0.912   0.54317 0.958   4.65561 0.878   8.40510 0.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0.103   9.61269 0.026   9.87314 0.073   9.97790 0.0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( 0+       1-       1-       ) (1*     10) DIM :  1 : 0 : 3 ACTO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54.64648 856.27197 856.76636 857.11066 858.35681 863.68793 864.12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53427  0.178937  0.080075  0.044825  0.000084  0.000398  0.000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73.27112 875.03711 881.34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31072  0.003446  0.000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 intensity   0.3934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put of charge transfer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ni2x19.oba out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3657600" y="1523880"/>
            <a:ext cx="12801600" cy="46677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0+   1-   1- 0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Ground state energy Eg0= -1.138234258     (   1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Weight of configurations 1,2,3 in the ground state: 0.96709 0.03291 0.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Lowest few energies            -1.13823  -0.21210   0.54317   4.65561   8.40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  9.61269   9.87314   9.97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energies and 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 0.967  -0.21210 0.912   0.54317 0.958   4.65561 0.878   8.40510 0.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9.34407 0.103   9.61269 0.026   9.87314 0.073   9.97790 0.0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( 0+       1-       1-       ) (1*     10) DIM :  1 : 0 : 3 ACTOR MULTI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54.64648 856.27197 856.76636 857.11066 858.35681 863.68793 864.12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53427  0.178937  0.080075  0.044825  0.000084  0.000398  0.000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873.27112 875.03711 881.34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-1.13823:  0.031072  0.003446  0.000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 intensity   0.3934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utput of charge transfer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270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267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round state of a transition met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t every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ge flu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41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4961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61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6553080" cy="6143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276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267080" y="533520"/>
            <a:ext cx="5160960" cy="5867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RC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3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523880"/>
            <a:ext cx="144018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1 3D10         4F01 3D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2 3D09         4F02 3D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76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.r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809880"/>
            <a:ext cx="1600200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 -9    2   10  1.0    5.E-06    1.E-09-2   130   1.0  0.65  0.0 0.50 0.0  0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0 3D10         4F00 3D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58     Ce3+ 4F01 3D09         4F01 3D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-1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R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f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523880"/>
            <a:ext cx="11201400" cy="53060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4    0    4  INTER2 shell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3 1 13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10  F00  F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10  F01  F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4+ 4F00 3D10     1    0.0000    0.0000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1 3D10     2    0.0000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.0872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0.0000    0.0000    0.0000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0                         80998080            8065.47800     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0             14    0    4    0    4  INTER2 shell00000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3 1 13 1 10         00      9 00000000   8065.4780 .00     0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F01  F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09  F02  F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1 3D09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8  890.0000    7.4422    0.1192    8.1943    3.7513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5.6584    3.3124    2.28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Ce3+ 4F02 3D09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1  890.0000   12.6281    7.9401    5.7171    7.4462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HR99999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.1072    7.4863    3.3843    5.0734    2.9684    2.04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99999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1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2888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90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6ce4f.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523880"/>
            <a:ext cx="1120140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PRMUL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erange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CONF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N2 5 w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G2 =  2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1 =  0.0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def EF2 =  -0.6 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0.925   0.9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1 1 2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MIX 2    0.6  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1     2 1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XHAM 1  1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4   1 1   1 2   2 1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AN  2    1 1    2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TRI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0+   1-   1- 0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2709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3341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11480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ubbard U for a 3d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ground st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=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7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+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9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gand-to-Metal Charge Transfer (LMC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=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9</a:t>
            </a:r>
            <a:r>
              <a:rPr b="0" lang="de-DE" sz="3200" spc="-1" strike="noStrike" u="sng">
                <a:solidFill>
                  <a:srgbClr val="0033cc"/>
                </a:solidFill>
                <a:uFillTx/>
                <a:latin typeface="Arial"/>
              </a:rPr>
              <a:t>L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 – E(3d</a:t>
            </a:r>
            <a:r>
              <a:rPr b="0" lang="de-DE" sz="3200" spc="-1" strike="noStrike" baseline="30000">
                <a:solidFill>
                  <a:srgbClr val="0033cc"/>
                </a:solidFill>
                <a:latin typeface="Arial"/>
              </a:rPr>
              <a:t>8</a:t>
            </a:r>
            <a:r>
              <a:rPr b="0" lang="de-DE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83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harge Transfer Multiplets of Ni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4920" y="36576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in Ce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TT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4960" y="762120"/>
            <a:ext cx="12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21560" y="8380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8640" y="3809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f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12845" t="63375" r="12845" b="10696"/>
          <a:stretch/>
        </p:blipFill>
        <p:spPr>
          <a:xfrm>
            <a:off x="5181480" y="3989520"/>
            <a:ext cx="3962520" cy="2392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685800"/>
            <a:ext cx="9144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the rcg, rac, ban and plo files of als6ni2x1 to exct1 (or any other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calculation from N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Mn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Start by making the rcn-files for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and Mn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s. Run TTRCN on them and replace the Ni parameters in the rcg-file with the M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TTRCG, TTRAC and TTBAN on the Mn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Plot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exct1.ban in order to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pure 3d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groun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The spectrum of LaMnO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Verdan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harge Transfer on M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668160"/>
          <a:ext cx="8686800" cy="61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8160"/>
                    <a:ext cx="8686800" cy="61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662040"/>
          <a:ext cx="8686800" cy="61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2040"/>
                    <a:ext cx="868680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9280" y="4191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6080" y="32004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-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716040"/>
          <a:ext cx="8610480" cy="61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16040"/>
                    <a:ext cx="861048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250680" y="47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0440" y="2666880"/>
            <a:ext cx="1413720" cy="581400"/>
          </a:xfrm>
          <a:prstGeom prst="rect">
            <a:avLst/>
          </a:prstGeom>
          <a:solidFill>
            <a:srgbClr val="effff7"/>
          </a:solidFill>
          <a:ln cap="sq"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+U-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52320" y="1905120"/>
            <a:ext cx="98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8580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oxide: Ground state: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2286000"/>
            <a:ext cx="16761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9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79000" y="502920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1148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11480" y="25146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4724280"/>
            <a:ext cx="1371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0" y="27432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4876920"/>
            <a:ext cx="0" cy="76176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11680" y="3886200"/>
            <a:ext cx="1246320" cy="1828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468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514600"/>
            <a:ext cx="1295640" cy="2133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571500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4600" y="3886200"/>
            <a:ext cx="79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715000"/>
            <a:ext cx="236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2438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038480"/>
            <a:ext cx="0" cy="16002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2666880"/>
            <a:ext cx="1447920" cy="2971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0040" y="4419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38280" y="3886200"/>
            <a:ext cx="1371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2960" y="487692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Groun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160" y="1143000"/>
            <a:ext cx="803376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O: Ground state: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(3d</a:t>
            </a:r>
            <a:r>
              <a:rPr b="0" lang="en-US" sz="4000" spc="-1" strike="noStrike" baseline="30000">
                <a:solidFill>
                  <a:srgbClr val="66ff33"/>
                </a:solidFill>
                <a:latin typeface="Arial"/>
              </a:rPr>
              <a:t>8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ubbard 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10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+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4000" spc="-1" strike="noStrike" baseline="30000">
                <a:solidFill>
                  <a:srgbClr val="ff66cc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etal-ligand CT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Arial"/>
              </a:rPr>
              <a:t>ML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9400" y="3200400"/>
            <a:ext cx="119124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0840" y="1143000"/>
            <a:ext cx="7604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: Ground state: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66ff33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3d</a:t>
            </a:r>
            <a:r>
              <a:rPr b="0" lang="en-US" sz="3600" spc="-1" strike="noStrike" baseline="30000">
                <a:solidFill>
                  <a:srgbClr val="ff66cc"/>
                </a:solidFill>
                <a:latin typeface="Arial"/>
              </a:rPr>
              <a:t>9</a:t>
            </a:r>
            <a:r>
              <a:rPr b="0" lang="en-US" sz="3600" spc="-1" strike="noStrike" u="sng">
                <a:solidFill>
                  <a:srgbClr val="ff66cc"/>
                </a:solidFill>
                <a:uFillTx/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4864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14800"/>
            <a:ext cx="14475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3434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76720" y="3657600"/>
            <a:ext cx="5486400" cy="2178360"/>
            <a:chOff x="3276720" y="3657600"/>
            <a:chExt cx="5486400" cy="2178360"/>
          </a:xfrm>
        </p:grpSpPr>
        <p:sp>
          <p:nvSpPr>
            <p:cNvPr id="169" name=""/>
            <p:cNvSpPr/>
            <p:nvPr/>
          </p:nvSpPr>
          <p:spPr>
            <a:xfrm>
              <a:off x="6400800" y="3657600"/>
              <a:ext cx="2362320" cy="21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cc"/>
                  </a:solidFill>
                  <a:latin typeface="Arial"/>
                </a:rPr>
                <a:t>2p</a:t>
              </a:r>
              <a:r>
                <a:rPr b="0" lang="en-US" sz="3600" spc="-1" strike="noStrike" baseline="30000">
                  <a:solidFill>
                    <a:srgbClr val="ff66cc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ff66cc"/>
                  </a:solidFill>
                  <a:latin typeface="Arial"/>
                </a:rPr>
                <a:t>3d</a:t>
              </a:r>
              <a:r>
                <a:rPr b="0" lang="en-US" sz="3600" spc="-1" strike="noStrike" baseline="30000">
                  <a:solidFill>
                    <a:srgbClr val="ff66cc"/>
                  </a:solidFill>
                  <a:latin typeface="Arial"/>
                </a:rPr>
                <a:t>10</a:t>
              </a:r>
              <a:r>
                <a:rPr b="0" lang="en-US" sz="3600" spc="-1" strike="noStrike" u="sng">
                  <a:solidFill>
                    <a:srgbClr val="ff66cc"/>
                  </a:solidFill>
                  <a:uFillTx/>
                  <a:latin typeface="Arial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ff33"/>
                  </a:solidFill>
                  <a:latin typeface="Arial"/>
                </a:rPr>
                <a:t>2p</a:t>
              </a:r>
              <a:r>
                <a:rPr b="0" lang="en-US" sz="3600" spc="-1" strike="noStrike" baseline="30000">
                  <a:solidFill>
                    <a:srgbClr val="66ff33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66ff33"/>
                  </a:solidFill>
                  <a:latin typeface="Arial"/>
                </a:rPr>
                <a:t>3d</a:t>
              </a:r>
              <a:r>
                <a:rPr b="0" lang="en-US" sz="3600" spc="-1" strike="noStrike" baseline="30000">
                  <a:solidFill>
                    <a:srgbClr val="66ff33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3680" y="4724280"/>
              <a:ext cx="17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+U-Q 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6920" y="4419720"/>
              <a:ext cx="144756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5486400"/>
              <a:ext cx="144756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4572000"/>
              <a:ext cx="0" cy="762120"/>
            </a:xfrm>
            <a:prstGeom prst="line">
              <a:avLst/>
            </a:prstGeom>
            <a:ln cap="sq"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6720" y="5486400"/>
              <a:ext cx="129528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4114800"/>
              <a:ext cx="1371600" cy="3049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2:07:13Z</dcterms:modified>
  <cp:revision>277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